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00A-50AF-4BC5-9B05-2F128709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A83-2DAD-43EA-B047-5606FAAB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1F6-FEC3-4240-9447-F1BA35C2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873-F90B-41C3-9922-1A41D5B9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BE1-2FE4-4143-A876-B996FD44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DEF-19C7-4E9F-9245-A09638CA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41A-A5BD-4668-8577-4EBD031D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3E8-8F8C-4A68-84E5-B76F3C8F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62C-A443-45E6-9238-CD364BB8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78B-DBA3-43A5-A8A8-27B1695A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6BA-2859-4A29-96D9-BD3A9CE8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630-8182-4C7E-84E7-8734689B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E1017C-7A5B-41F3-85FC-8F2EC957772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7160" y="8672400"/>
            <a:ext cx="3735360" cy="914400"/>
          </a:xfrm>
          <a:prstGeom prst="rect">
            <a:avLst/>
          </a:prstGeom>
          <a:solidFill>
            <a:srgbClr val="bcbcb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4480" y="8763120"/>
            <a:ext cx="1219320" cy="113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67080" y="9372600"/>
            <a:ext cx="2590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500" spc="-1" strike="noStrike">
                <a:solidFill>
                  <a:srgbClr val="1e0098"/>
                </a:solidFill>
                <a:latin typeface="Trebuchet MS"/>
              </a:rPr>
              <a:t>Sponsored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2839" t="11473" r="16796" b="12823"/>
          <a:stretch/>
        </p:blipFill>
        <p:spPr>
          <a:xfrm>
            <a:off x="4343400" y="8686800"/>
            <a:ext cx="1981080" cy="65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169920"/>
            <a:ext cx="6858000" cy="272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160" y="3081240"/>
            <a:ext cx="7316640" cy="1643040"/>
          </a:xfrm>
          <a:prstGeom prst="rect">
            <a:avLst/>
          </a:prstGeom>
          <a:solidFill>
            <a:srgbClr val="d7d9b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7160" y="3470400"/>
            <a:ext cx="724032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Americas 2011 is an 8 day gathering of the GMOD Community featuring a community meeting, satellite meetings, and a GMOD school. If you are looking to exploit (or just get a handle on) your recent or coming datasets, please consider attending one or more events at GMOD Americas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is a collection of open source software components for managing, visualizing and annotating biological data.  It is also an active community of biologists and developers addressing common challenges with a shared tool se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59440" y="3048120"/>
            <a:ext cx="30520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MOD Americas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4290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7160" y="4916520"/>
            <a:ext cx="7316640" cy="1162080"/>
          </a:xfrm>
          <a:prstGeom prst="rect">
            <a:avLst/>
          </a:prstGeom>
          <a:solidFill>
            <a:srgbClr val="adf8fe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35560" y="4876920"/>
            <a:ext cx="24987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ommunity Me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7160" y="5259240"/>
            <a:ext cx="7240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full days of presentations &amp; discussion on GMOD components, best practices, and project direction, featuring GMOD users and developers.  New, potential, and veteran users are encouraged to attend.  A special project overview session will be held the night before to introduce new and potential users to the GMOD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1520" y="9578880"/>
            <a:ext cx="3844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mod.org/wiki/GMOD_Americs_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259240"/>
            <a:ext cx="71625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160" y="6281640"/>
            <a:ext cx="7316640" cy="804960"/>
          </a:xfrm>
          <a:prstGeom prst="rect">
            <a:avLst/>
          </a:prstGeom>
          <a:solidFill>
            <a:srgbClr val="97de9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87840" y="6242040"/>
            <a:ext cx="21938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atellite Meet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160" y="6624720"/>
            <a:ext cx="72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ay of informal special interest group / birds-of-a-feather meetings where GMOD Community members discuss and work on topics of common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624720"/>
            <a:ext cx="716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7278840"/>
            <a:ext cx="7316640" cy="1179360"/>
          </a:xfrm>
          <a:prstGeom prst="rect">
            <a:avLst/>
          </a:prstGeom>
          <a:solidFill>
            <a:srgbClr val="fcfe8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23920" y="7238880"/>
            <a:ext cx="19213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pring Trai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160" y="7621560"/>
            <a:ext cx="7240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-day hands on course on GMOD component installation, configuration and usage. The course will cover many popular components, including annotation tool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R, Apol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visualization tool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Browse, JBrowse, GBrowse_sy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database system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do, InterMine, Trip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analysis &amp; data integration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laxy, GFF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7621560"/>
            <a:ext cx="716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600" y="8661240"/>
            <a:ext cx="3636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GMOD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5-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Community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Satellite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8-1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Spring Tr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0:18:34Z</dcterms:created>
  <dc:creator>GMOD / NESCent</dc:creator>
  <dc:description/>
  <dc:language>en-US</dc:language>
  <cp:lastModifiedBy>GMOD / NESCent</cp:lastModifiedBy>
  <dcterms:modified xsi:type="dcterms:W3CDTF">2010-12-06T20:40:26Z</dcterms:modified>
  <cp:revision>2</cp:revision>
  <dc:subject/>
  <dc:title>PowerPoint Presentation</dc:title>
</cp:coreProperties>
</file>